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0FF6-3956-491A-83B9-1BAAAFA1B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0B8D-7A45-44CC-9EAB-97CB5C4A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3EDF-9A20-4A79-9463-75F59F9E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D452-97E0-477B-B42E-5DE1AC6DA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85E0-D146-492A-BCAE-1CA42B07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3542-6A4F-444C-BD80-4746D629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3A61-75BE-4E43-9C54-38A4BE63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F70B-1CE8-494D-9A12-172DB67F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250B-0F27-4818-BC86-BDF90472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D6F3-80FC-4EC9-BEFD-93AC0CCC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2BEC-1733-4351-9A0C-B24B4D67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F30C-A6B9-47BC-ADF9-243CB847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CF87-5497-46C8-9B2D-F10DE9258E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91947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POENOSTAVLJENE OBLIKE STROŠKOV „POS“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82800" y="630360"/>
            <a:ext cx="9308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IZKUŠNJE 2007-2013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579320" y="1864800"/>
            <a:ext cx="80658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AVŠAL ZA POSREDNE STROŠ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5% za operacije sofinancirane iz ESS od leta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20% za operacije sofinancirane iz ESRR od leta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TANDARDNI STROŠKI NA ENO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ENKRATNA IZPLAČI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29800" y="8568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UPORABA „POS“ 2014-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317240" y="1373040"/>
            <a:ext cx="930924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v obdobju 2014-20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PAVŠALNO FINANCIRAN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uporablja se lahko za vse vrste stroškov (ne le za posredn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do 25% pavšalno financiranje za posredne stroške na podlagi metodolog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do 15% pavšalnega financiranja za posredne stroške, ki se določijo na podlagi upravičenih neposrednih stroškov za oseb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uporaba stopenj pavšalnega financiranja, ki obstajajo v politikah Unije (Obzorje 2020, LIF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ESS – do 40% za vse ostale stroške glede na upravičene neposredne stroške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UPORABA „POS“ 2014-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312560" y="1784520"/>
            <a:ext cx="9620280" cy="38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STANDARDNE LESTVICE STROŠKOV NA ENO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i temeljijo na proces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i temeljijo na rezultati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i temeljijo na procesu in rezulta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formula za urno postavko stroškov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PAVŠALNI ZNES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kombiniranje vseh oblik „POS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65200" y="1706400"/>
            <a:ext cx="92613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cerne.tanja@gov.si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8T12:05:15Z</dcterms:created>
  <dc:creator>Tanja Černe</dc:creator>
  <dc:description/>
  <dc:language>en-US</dc:language>
  <cp:lastModifiedBy>Tanja Černe</cp:lastModifiedBy>
  <dcterms:modified xsi:type="dcterms:W3CDTF">2015-11-09T08:42:28Z</dcterms:modified>
  <cp:revision>12</cp:revision>
  <dc:subject/>
  <dc:title>POSTOPEK IMENOVANJA</dc:title>
</cp:coreProperties>
</file>